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%D8%B3%D9%82%D9%88%D8%B7%201.wav" ContentType="audio/x-wav"/>
  <Override PartName="/ppt/media/%D8%B3%D9%82%D9%88%D8%B72.wav" ContentType="audio/x-wav"/>
  <Override PartName="/ppt/media/POP.WAV" ContentType="audio/x-wav"/>
  <Override PartName="/ppt/media/clap.wav" ContentType="audio/x-wav"/>
  <Override PartName="/ppt/media/%D9%85%D8%B7%D8%A7%D8%B7%204.wav" ContentType="audio/x-wav"/>
  <Override PartName="/ppt/media/DRIP.WAV" ContentType="audio/x-wav"/>
  <Override PartName="/ppt/media/CLICK.WAV" ContentType="audio/x-wav"/>
  <Override PartName="/ppt/media/INFO.WAV" ContentType="audio/x-wav"/>
  <Override PartName="/ppt/media/camera.wav" ContentType="audio/x-wav"/>
  <Override PartName="/ppt/media/whoosh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415-70D8-478A-A933-6AAC82E6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5EEC-47D1-4BE0-9C38-70749023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05BF-9F9B-400F-BB08-3CDD4968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827-6914-4AAE-9E5C-11B4DEE1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386-6272-4EB5-BF40-98E0DAD2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8B45-6F8B-491F-8F03-407BD1AD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A826-CCF8-4A0A-B22E-78A98C4B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CFEB-A741-4AF4-8276-397533EF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1EA-61FD-44C5-A49D-408C165B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6602-8A54-4D10-BA7E-D843A51E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7686-7814-4C6E-A994-3F957B47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5B31-557B-45D8-9B62-2AD1F7C4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5536-CFEB-48BF-AEC7-4A5490ABC5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1587;&#1602;&#1608;&#1591;%201.wav"/><Relationship Id="rId3" Type="http://schemas.openxmlformats.org/officeDocument/2006/relationships/audio" Target="../media/&#1587;&#1602;&#1608;&#1591;2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OP.WAV"/><Relationship Id="rId3" Type="http://schemas.openxmlformats.org/officeDocument/2006/relationships/audio" Target="../media/&#1605;&#1591;&#1575;&#1591;%204.wav"/><Relationship Id="rId4" Type="http://schemas.openxmlformats.org/officeDocument/2006/relationships/audio" Target="../media/DRIP.WAV"/><Relationship Id="rId5" Type="http://schemas.openxmlformats.org/officeDocument/2006/relationships/audio" Target="../media/DRIP.WAV"/><Relationship Id="rId6" Type="http://schemas.openxmlformats.org/officeDocument/2006/relationships/audio" Target="../media/DRIP.WAV"/><Relationship Id="rId7" Type="http://schemas.openxmlformats.org/officeDocument/2006/relationships/audio" Target="../media/DRIP.WAV"/><Relationship Id="rId8" Type="http://schemas.openxmlformats.org/officeDocument/2006/relationships/audio" Target="../media/DRIP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&#1605;&#1591;&#1575;&#1591;%204.wav"/><Relationship Id="rId5" Type="http://schemas.openxmlformats.org/officeDocument/2006/relationships/audio" Target="../media/INFO.WAV"/><Relationship Id="rId6" Type="http://schemas.openxmlformats.org/officeDocument/2006/relationships/audio" Target="../media/&#1605;&#1591;&#1575;&#1591;%204.wav"/><Relationship Id="rId7" Type="http://schemas.openxmlformats.org/officeDocument/2006/relationships/audio" Target="../media/INFO.WAV"/><Relationship Id="rId8" Type="http://schemas.openxmlformats.org/officeDocument/2006/relationships/audio" Target="../media/&#1605;&#1591;&#1575;&#1591;%204.wav"/><Relationship Id="rId9" Type="http://schemas.openxmlformats.org/officeDocument/2006/relationships/audio" Target="../media/INFO.WAV"/><Relationship Id="rId10" Type="http://schemas.openxmlformats.org/officeDocument/2006/relationships/audio" Target="../media/&#1605;&#1591;&#1575;&#1591;%204.wav"/><Relationship Id="rId11" Type="http://schemas.openxmlformats.org/officeDocument/2006/relationships/audio" Target="../media/INFO.WAV"/><Relationship Id="rId12" Type="http://schemas.openxmlformats.org/officeDocument/2006/relationships/audio" Target="../media/&#1605;&#1591;&#1575;&#1591;%204.wav"/><Relationship Id="rId13" Type="http://schemas.openxmlformats.org/officeDocument/2006/relationships/audio" Target="../media/INFO.WAV"/><Relationship Id="rId14" Type="http://schemas.openxmlformats.org/officeDocument/2006/relationships/audio" Target="../media/&#1605;&#1591;&#1575;&#1591;%204.wav"/><Relationship Id="rId15" Type="http://schemas.openxmlformats.org/officeDocument/2006/relationships/audio" Target="../media/INFO.WAV"/><Relationship Id="rId16" Type="http://schemas.openxmlformats.org/officeDocument/2006/relationships/audio" Target="../media/&#1605;&#1591;&#1575;&#1591;%204.wav"/><Relationship Id="rId17" Type="http://schemas.openxmlformats.org/officeDocument/2006/relationships/audio" Target="../media/INFO.WAV"/><Relationship Id="rId18" Type="http://schemas.openxmlformats.org/officeDocument/2006/relationships/audio" Target="../media/&#1605;&#1591;&#1575;&#1591;%204.wav"/><Relationship Id="rId19" Type="http://schemas.openxmlformats.org/officeDocument/2006/relationships/audio" Target="../media/INFO.WAV"/><Relationship Id="rId20" Type="http://schemas.openxmlformats.org/officeDocument/2006/relationships/audio" Target="../media/&#1605;&#1591;&#1575;&#1591;%204.wav"/><Relationship Id="rId21" Type="http://schemas.openxmlformats.org/officeDocument/2006/relationships/audio" Target="../media/INFO.WAV"/><Relationship Id="rId22" Type="http://schemas.openxmlformats.org/officeDocument/2006/relationships/audio" Target="../media/INFO.WAV"/><Relationship Id="rId23" Type="http://schemas.openxmlformats.org/officeDocument/2006/relationships/audio" Target="../media/DRIP.WAV"/><Relationship Id="rId24" Type="http://schemas.openxmlformats.org/officeDocument/2006/relationships/audio" Target="../media/DRIP.WAV"/><Relationship Id="rId25" Type="http://schemas.openxmlformats.org/officeDocument/2006/relationships/audio" Target="../media/DRIP.WAV"/><Relationship Id="rId26" Type="http://schemas.openxmlformats.org/officeDocument/2006/relationships/audio" Target="../media/DRIP.WAV"/><Relationship Id="rId27" Type="http://schemas.openxmlformats.org/officeDocument/2006/relationships/audio" Target="../media/DRIP.WAV"/><Relationship Id="rId28" Type="http://schemas.openxmlformats.org/officeDocument/2006/relationships/audio" Target="../media/DRIP.WAV"/><Relationship Id="rId29" Type="http://schemas.openxmlformats.org/officeDocument/2006/relationships/audio" Target="../media/DRIP.WAV"/><Relationship Id="rId30" Type="http://schemas.openxmlformats.org/officeDocument/2006/relationships/audio" Target="../media/DRIP.WAV"/><Relationship Id="rId31" Type="http://schemas.openxmlformats.org/officeDocument/2006/relationships/audio" Target="../media/DRI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1587;&#1602;&#1608;&#1591;2.wav"/><Relationship Id="rId3" Type="http://schemas.openxmlformats.org/officeDocument/2006/relationships/audio" Target="../media/&#1587;&#1602;&#1608;&#1591;2.wav"/><Relationship Id="rId4" Type="http://schemas.openxmlformats.org/officeDocument/2006/relationships/audio" Target="../media/camera.wav"/><Relationship Id="rId5" Type="http://schemas.openxmlformats.org/officeDocument/2006/relationships/audio" Target="../media/POP.WAV"/><Relationship Id="rId6" Type="http://schemas.openxmlformats.org/officeDocument/2006/relationships/audio" Target="../media/POP.WAV"/><Relationship Id="rId7" Type="http://schemas.openxmlformats.org/officeDocument/2006/relationships/audio" Target="../media/whoosh.wav"/><Relationship Id="rId8" Type="http://schemas.openxmlformats.org/officeDocument/2006/relationships/audio" Target="../media/DRIP.WAV"/><Relationship Id="rId9" Type="http://schemas.openxmlformats.org/officeDocument/2006/relationships/audio" Target="../media/POP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NFO.WAV"/><Relationship Id="rId3" Type="http://schemas.openxmlformats.org/officeDocument/2006/relationships/audio" Target="../media/&#1605;&#1591;&#1575;&#1591;%204.wav"/><Relationship Id="rId4" Type="http://schemas.openxmlformats.org/officeDocument/2006/relationships/audio" Target="../media/&#1587;&#1602;&#1608;&#1591;2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NFO.WAV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67280" y="144360"/>
            <a:ext cx="4681440" cy="3068640"/>
          </a:xfrm>
          <a:prstGeom prst="cloudCallout">
            <a:avLst>
              <a:gd name="adj1" fmla="val -43759"/>
              <a:gd name="adj2" fmla="val 66916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4faa4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Arial"/>
                <a:cs typeface="onaizah claseec-ayman"/>
              </a:rPr>
              <a:t>الدرس الخام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789360"/>
            <a:ext cx="8569080" cy="2232000"/>
          </a:xfrm>
          <a:prstGeom prst="cloudCallout">
            <a:avLst>
              <a:gd name="adj1" fmla="val -45111"/>
              <a:gd name="adj2" fmla="val 69986"/>
            </a:avLst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ffff"/>
                </a:solidFill>
                <a:latin typeface="Arial"/>
                <a:cs typeface="AL-Hor"/>
              </a:rPr>
              <a:t>حذف بعض الأحرف من الكلمة</a:t>
            </a:r>
            <a:r>
              <a:rPr b="0" lang="en-US" sz="6000" spc="-1" strike="noStrike">
                <a:solidFill>
                  <a:srgbClr val="00ff00"/>
                </a:solidFill>
                <a:latin typeface="Arial"/>
                <a:ea typeface="AL-Hor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8%B3%D9%82%D9%88%D8%B7%2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B3%D9%82%D9%88%D8%B7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029240" y="279360"/>
            <a:ext cx="1149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MCS Taybah S_U normal."/>
              </a:rPr>
              <a:t> ( الأله ـ الرحمن ـ لكن ـ هذا ـ هذه ـ هذان ـ هؤلاء ـ هكذا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4040" y="1143000"/>
            <a:ext cx="67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*</a:t>
            </a:r>
            <a:r>
              <a:rPr b="0" lang="ar-SA" sz="4000" spc="-1" strike="noStrike">
                <a:solidFill>
                  <a:srgbClr val="ccff33"/>
                </a:solidFill>
                <a:latin typeface="Arial"/>
                <a:ea typeface="MCS Taybah S_U normal."/>
              </a:rPr>
              <a:t> ماذا تلاحظ في هذه الكلمات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141560" y="2211480"/>
            <a:ext cx="115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9900"/>
                </a:solidFill>
                <a:latin typeface="Arial"/>
                <a:cs typeface="MCS Taybah S_U normal."/>
              </a:rPr>
              <a:t>نلاحظ أن كل كلمة بها ألف مد تنطق ولكنها حذفت في الكتابة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33800" y="3087720"/>
            <a:ext cx="40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  <a:ea typeface="MCS Taybah S_U normal.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  <a:cs typeface="MCS Taybah S_U normal."/>
              </a:rPr>
              <a:t>ما سبب حذفها ؟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4095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cccc00"/>
                </a:solidFill>
                <a:latin typeface="Arial"/>
                <a:cs typeface="MCS Taybah S_U normal."/>
              </a:rPr>
              <a:t>سبب حذفها هو كثرة استعمالها في الكتابة لذلك حذفت تخفيفا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56760" y="5086440"/>
            <a:ext cx="922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99ff"/>
                </a:solidFill>
                <a:latin typeface="Arial"/>
                <a:cs typeface="MCS Taybah S_U normal."/>
              </a:rPr>
              <a:t>فما الأصل في تلك الكلمات 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907920"/>
            <a:ext cx="7991280" cy="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9%85%D8%B7%D8%A7%D8%B7%2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778680" y="1044720"/>
            <a:ext cx="1152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MCS Taybah S_U normal."/>
              </a:rPr>
              <a:t> (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MCS Taybah S_U normal."/>
              </a:rPr>
              <a:t>الأله ، الرحمن ، لكن ، هذا ، هذه، هذان ، هؤلاء ، هكذا ، ذل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59920" y="195120"/>
            <a:ext cx="647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ff"/>
                </a:solidFill>
                <a:latin typeface="Arial"/>
                <a:cs typeface="MCS Taybah S_U normal."/>
              </a:rPr>
              <a:t>أصل الكلمات التالية هي كما يأتي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459640" y="1844640"/>
            <a:ext cx="0" cy="1079640"/>
          </a:xfrm>
          <a:prstGeom prst="line">
            <a:avLst/>
          </a:prstGeom>
          <a:ln w="76320">
            <a:solidFill>
              <a:srgbClr val="ff99ff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80360" y="1844640"/>
            <a:ext cx="0" cy="1079640"/>
          </a:xfrm>
          <a:prstGeom prst="line">
            <a:avLst/>
          </a:prstGeom>
          <a:ln w="76320">
            <a:solidFill>
              <a:srgbClr val="ff99ff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43640" y="1844640"/>
            <a:ext cx="0" cy="1079640"/>
          </a:xfrm>
          <a:prstGeom prst="line">
            <a:avLst/>
          </a:prstGeom>
          <a:ln w="76320">
            <a:solidFill>
              <a:srgbClr val="ff99ff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1844640"/>
            <a:ext cx="0" cy="1079640"/>
          </a:xfrm>
          <a:prstGeom prst="line">
            <a:avLst/>
          </a:prstGeom>
          <a:ln w="76320">
            <a:solidFill>
              <a:srgbClr val="ff99ff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1844640"/>
            <a:ext cx="0" cy="1079640"/>
          </a:xfrm>
          <a:prstGeom prst="line">
            <a:avLst/>
          </a:prstGeom>
          <a:ln w="76320">
            <a:solidFill>
              <a:srgbClr val="ff99ff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1844640"/>
            <a:ext cx="0" cy="1079640"/>
          </a:xfrm>
          <a:prstGeom prst="line">
            <a:avLst/>
          </a:prstGeom>
          <a:ln w="76320">
            <a:solidFill>
              <a:srgbClr val="ff99ff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1844640"/>
            <a:ext cx="0" cy="1079640"/>
          </a:xfrm>
          <a:prstGeom prst="line">
            <a:avLst/>
          </a:prstGeom>
          <a:ln w="76320">
            <a:solidFill>
              <a:srgbClr val="ff99ff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68360" y="1844640"/>
            <a:ext cx="0" cy="1079640"/>
          </a:xfrm>
          <a:prstGeom prst="line">
            <a:avLst/>
          </a:prstGeom>
          <a:ln w="76320">
            <a:solidFill>
              <a:srgbClr val="ff99ff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87320" y="2924280"/>
            <a:ext cx="116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66ff99"/>
                </a:solidFill>
                <a:latin typeface="Arial"/>
                <a:cs typeface="MCS Taybah S_U normal."/>
              </a:rPr>
              <a:t>ا</a:t>
            </a:r>
            <a:r>
              <a:rPr b="0" lang="hi-IN" sz="3600" spc="-1" strike="noStrike">
                <a:solidFill>
                  <a:srgbClr val="66ff99"/>
                </a:solidFill>
                <a:latin typeface="Arial"/>
                <a:cs typeface="MCS Taybah S_U normal."/>
              </a:rPr>
              <a:t>لألا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46600" y="2970360"/>
            <a:ext cx="17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ff99"/>
                </a:solidFill>
                <a:latin typeface="Arial"/>
                <a:cs typeface="MCS Taybah S_U normal."/>
              </a:rPr>
              <a:t>الرح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61960" y="297036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ff99"/>
                </a:solidFill>
                <a:latin typeface="Arial"/>
                <a:cs typeface="MCS Taybah S_U normal."/>
              </a:rPr>
              <a:t>لاك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00640" y="297036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ff99"/>
                </a:solidFill>
                <a:latin typeface="Arial"/>
                <a:cs typeface="MCS Taybah S_U normal."/>
              </a:rPr>
              <a:t>هاذ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06840" y="2970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ff99"/>
                </a:solidFill>
                <a:latin typeface="Arial"/>
                <a:cs typeface="MCS Taybah S_U normal."/>
              </a:rPr>
              <a:t>هاذ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27280" y="3011400"/>
            <a:ext cx="12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ff99"/>
                </a:solidFill>
                <a:latin typeface="Arial"/>
                <a:cs typeface="MCS Taybah S_U normal."/>
              </a:rPr>
              <a:t>هاذ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4320" y="297036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ff99"/>
                </a:solidFill>
                <a:latin typeface="Arial"/>
                <a:cs typeface="MCS Taybah S_U normal."/>
              </a:rPr>
              <a:t>هاؤلا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44840" y="3011400"/>
            <a:ext cx="12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ff99"/>
                </a:solidFill>
                <a:latin typeface="Arial"/>
                <a:ea typeface="MCS Taybah S_U normal."/>
              </a:rPr>
              <a:t> هاكذ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8000" y="37735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00"/>
                </a:solidFill>
                <a:latin typeface="Arial"/>
                <a:ea typeface="MCS Taybah S_U normal."/>
              </a:rPr>
              <a:t> حذفت وسبب حذفها هو كثرة استعمالها في الكتابة لذلك حذفت تخفيفا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993800" y="2600280"/>
            <a:ext cx="8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876360" y="2600280"/>
            <a:ext cx="8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33440" y="2600280"/>
            <a:ext cx="8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185800" y="2600280"/>
            <a:ext cx="8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466520" y="2600280"/>
            <a:ext cx="8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674520" y="2637000"/>
            <a:ext cx="8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699640" y="2637000"/>
            <a:ext cx="8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729800" y="2671920"/>
            <a:ext cx="8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2000" y="1844640"/>
            <a:ext cx="0" cy="1079640"/>
          </a:xfrm>
          <a:prstGeom prst="line">
            <a:avLst/>
          </a:prstGeom>
          <a:ln w="76320">
            <a:solidFill>
              <a:srgbClr val="ff99ff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8040" y="3003480"/>
            <a:ext cx="103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ff99"/>
                </a:solidFill>
                <a:latin typeface="Arial"/>
                <a:cs typeface="MCS Taybah S_U normal."/>
              </a:rPr>
              <a:t>ذا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793080" y="2637000"/>
            <a:ext cx="8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9%85%D8%B7%D8%A7%D8%B7%2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INF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9%85%D8%B7%D8%A7%D8%B7%2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INF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5%D8%B7%D8%A7%D8%B7%2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INF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9%85%D8%B7%D8%A7%D8%B7%2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INF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9%85%D8%B7%D8%A7%D8%B7%2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INF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9%85%D8%B7%D8%A7%D8%B7%2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INF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9%85%D8%B7%D8%A7%D8%B7%2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INF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9%85%D8%B7%D8%A7%D8%B7%2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INF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9%85%D8%B7%D8%A7%D8%B7%2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INF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INF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555600" y="44280"/>
            <a:ext cx="19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00"/>
                </a:solidFill>
                <a:latin typeface="Alois"/>
                <a:cs typeface="MCS Taybah S_U normal."/>
              </a:rPr>
              <a:t>ابن</a:t>
            </a:r>
            <a:r>
              <a:rPr b="0" lang="en-US" sz="4800" spc="-1" strike="noStrike">
                <a:solidFill>
                  <a:srgbClr val="ff99ff"/>
                </a:solidFill>
                <a:latin typeface="Alois"/>
                <a:ea typeface="MCS Taybah S_U normal."/>
              </a:rPr>
              <a:t> زي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760" y="115920"/>
            <a:ext cx="343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99ff"/>
                </a:solidFill>
                <a:latin typeface="Alois"/>
                <a:cs typeface="MCS Taybah S_U normal."/>
              </a:rPr>
              <a:t>أسامة </a:t>
            </a:r>
            <a:r>
              <a:rPr b="0" lang="hi-IN" sz="4800" spc="-1" strike="noStrike">
                <a:solidFill>
                  <a:srgbClr val="ffff00"/>
                </a:solidFill>
                <a:latin typeface="Alois"/>
                <a:cs typeface="MCS Taybah S_U normal."/>
              </a:rPr>
              <a:t>بن</a:t>
            </a:r>
            <a:r>
              <a:rPr b="0" lang="en-US" sz="4800" spc="-1" strike="noStrike">
                <a:solidFill>
                  <a:srgbClr val="ff99ff"/>
                </a:solidFill>
                <a:latin typeface="Alois"/>
                <a:ea typeface="MCS Taybah S_U normal."/>
              </a:rPr>
              <a:t> زي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292320" y="981000"/>
            <a:ext cx="100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  <a:ea typeface="Al-Homam"/>
              </a:rPr>
              <a:t> </a:t>
            </a:r>
            <a:r>
              <a:rPr b="0" lang="en-US" sz="3600" spc="-1" strike="noStrike">
                <a:solidFill>
                  <a:srgbClr val="66ffff"/>
                </a:solidFill>
                <a:latin typeface="Wingdings 3"/>
                <a:ea typeface="Wingdings 3"/>
              </a:rPr>
              <a:t></a:t>
            </a:r>
            <a:r>
              <a:rPr b="0" lang="en-US" sz="3600" spc="-1" strike="noStrike">
                <a:solidFill>
                  <a:srgbClr val="66ffff"/>
                </a:solidFill>
                <a:latin typeface="Arial"/>
                <a:ea typeface="Al-Homam"/>
              </a:rPr>
              <a:t> ما الفرق بين كلمتي ( ابن )في الجملتين السابقتين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73760" y="1693800"/>
            <a:ext cx="58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99ff99"/>
                </a:solidFill>
                <a:latin typeface="Arial"/>
                <a:cs typeface="MCS Taybah S_U normal."/>
              </a:rPr>
              <a:t>في الأولى نطقنا الألف وكتبناه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765000" y="1647720"/>
            <a:ext cx="623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99ff99"/>
                </a:solidFill>
                <a:latin typeface="Arial"/>
                <a:cs typeface="MCS Taybah S_U normal."/>
              </a:rPr>
              <a:t>في الثانية نطقنا الألف ولم نكتبها</a:t>
            </a:r>
            <a:r>
              <a:rPr b="0" lang="en-US" sz="4000" spc="-1" strike="noStrike">
                <a:solidFill>
                  <a:srgbClr val="99ff99"/>
                </a:solidFill>
                <a:latin typeface="Arial"/>
                <a:ea typeface="MCS Taybah S_U normal.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811440" y="2295360"/>
            <a:ext cx="1046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Wingdings 2"/>
                <a:ea typeface="Wingdings 2"/>
              </a:rPr>
              <a:t>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MCS Taybah S_U normal."/>
              </a:rPr>
              <a:t> لماذا كتبت الألف في الأولى وحذفت في الثانية ؟</a:t>
            </a:r>
            <a:r>
              <a:rPr b="0" lang="en-US" sz="4000" spc="-1" strike="noStrike">
                <a:solidFill>
                  <a:srgbClr val="ffffcc"/>
                </a:solidFill>
                <a:latin typeface="Wingdings 2"/>
                <a:ea typeface="Wingdings 2"/>
              </a:rPr>
              <a:t>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413720" y="3178080"/>
            <a:ext cx="120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</a:t>
            </a:r>
            <a:r>
              <a:rPr b="0" lang="hi-IN" sz="3200" spc="-1" strike="noStrike">
                <a:solidFill>
                  <a:srgbClr val="ffccff"/>
                </a:solidFill>
                <a:latin typeface="Arial"/>
                <a:cs typeface="MCS Taybah S_U normal."/>
              </a:rPr>
              <a:t>نلاحظ أن الكلمة الثانية وقعت بين علمين  بينما الأولى لم تقع بين علمين</a:t>
            </a:r>
            <a:r>
              <a:rPr b="0" lang="en-US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425448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ccecff"/>
                </a:solidFill>
                <a:latin typeface="Arial"/>
                <a:cs typeface="MCS Taybah S_U normal."/>
              </a:rPr>
              <a:t>إذاً حذفت همزة  (ابن ) لأنها وقعت بين علمين اسمين وذلك للتخفيف لكثرة استخدامها بين الأعلا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8%B3%D9%82%D9%88%D8%B7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B3%D9%82%D9%88%D8%B7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70080" y="-243000"/>
            <a:ext cx="8216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990099"/>
                </a:solidFill>
                <a:latin typeface="Arial"/>
                <a:cs typeface="Hesham Free"/>
              </a:rPr>
              <a:t>القاعــــــــــدة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916280"/>
            <a:ext cx="907272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ffff"/>
                </a:solidFill>
                <a:latin typeface="Wingdings"/>
                <a:ea typeface="Wingdings"/>
              </a:rPr>
              <a:t></a:t>
            </a:r>
            <a:r>
              <a:rPr b="0" i="1" lang="en-US" sz="4400" spc="-1" strike="noStrike">
                <a:solidFill>
                  <a:srgbClr val="66ffff"/>
                </a:solidFill>
                <a:latin typeface="Arial"/>
                <a:ea typeface="AL-Hor"/>
              </a:rPr>
              <a:t> </a:t>
            </a:r>
            <a:r>
              <a:rPr b="0" i="1" lang="hi-IN" sz="4000" spc="-1" strike="noStrike">
                <a:solidFill>
                  <a:srgbClr val="ffffcc"/>
                </a:solidFill>
                <a:latin typeface="Arial"/>
                <a:cs typeface="AL-Hor"/>
              </a:rPr>
              <a:t>تحذف الألف من وسط الكلمات التالية :  </a:t>
            </a:r>
            <a:r>
              <a:rPr b="0" i="1" lang="en-US" sz="4400" spc="-1" strike="noStrike">
                <a:solidFill>
                  <a:srgbClr val="66ffff"/>
                </a:solidFill>
                <a:latin typeface="Wingdings"/>
                <a:ea typeface="Wingdings"/>
              </a:rPr>
              <a:t>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</a:t>
            </a:r>
            <a:r>
              <a:rPr b="0" i="1" lang="en-US" sz="4000" spc="-1" strike="noStrike">
                <a:solidFill>
                  <a:srgbClr val="ffcccc"/>
                </a:solidFill>
                <a:latin typeface="Arial"/>
                <a:ea typeface="AL-Hor"/>
              </a:rPr>
              <a:t> </a:t>
            </a:r>
            <a:r>
              <a:rPr b="0" i="1" lang="en-US" sz="3600" spc="-1" strike="noStrike">
                <a:solidFill>
                  <a:srgbClr val="ffcccc"/>
                </a:solidFill>
                <a:latin typeface="Arial"/>
                <a:ea typeface="AL-Hor"/>
              </a:rPr>
              <a:t>( الإله ، الرحمن ، لكن ، ذلك ، هذا ، هذه ، هذان ، هؤلاء ـ هكذا )</a:t>
            </a:r>
            <a:r>
              <a:rPr b="0" i="1" lang="en-US" sz="5400" spc="-1" strike="noStrike">
                <a:solidFill>
                  <a:srgbClr val="ffffff"/>
                </a:solidFill>
                <a:latin typeface="Arial"/>
                <a:ea typeface="AL-Hor"/>
              </a:rPr>
              <a:t> </a:t>
            </a:r>
            <a:r>
              <a:rPr b="0" i="1" lang="en-US" sz="4400" spc="-1" strike="noStrike">
                <a:solidFill>
                  <a:srgbClr val="ff0000"/>
                </a:solidFill>
                <a:latin typeface="Wingdings 2"/>
                <a:ea typeface="Wingdings 2"/>
              </a:rPr>
              <a:t>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3890880"/>
            <a:ext cx="741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Wingdings 2"/>
                <a:ea typeface="Wingdings 2"/>
              </a:rPr>
              <a:t></a:t>
            </a:r>
            <a:r>
              <a:rPr b="0" i="1" lang="hi-IN" sz="4400" spc="-1" strike="noStrike">
                <a:solidFill>
                  <a:srgbClr val="ccecff"/>
                </a:solidFill>
                <a:latin typeface="Arial"/>
                <a:cs typeface="AL-Hor"/>
              </a:rPr>
              <a:t>تحذف همزة (ابن ) إذا وقعت بين علمين .</a:t>
            </a:r>
            <a:r>
              <a:rPr b="0" i="1" lang="en-US" sz="4400" spc="-1" strike="noStrike">
                <a:solidFill>
                  <a:srgbClr val="ffffcc"/>
                </a:solidFill>
                <a:latin typeface="Arial"/>
                <a:ea typeface="AL-Hor"/>
              </a:rPr>
              <a:t> </a:t>
            </a:r>
            <a:r>
              <a:rPr b="0" i="1" lang="en-US" sz="4400" spc="-1" strike="noStrike">
                <a:solidFill>
                  <a:srgbClr val="ffffcc"/>
                </a:solidFill>
                <a:latin typeface="Wingdings 2"/>
                <a:ea typeface="Wingdings 2"/>
              </a:rPr>
              <a:t>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INF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9%85%D8%B7%D8%A7%D8%B7%2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8%B3%D9%82%D9%88%D8%B7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3999960" y="1679400"/>
            <a:ext cx="168458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800" spc="-1" strike="noStrike">
                <a:solidFill>
                  <a:srgbClr val="ffff00"/>
                </a:solidFill>
                <a:latin typeface="Arial"/>
                <a:cs typeface="AL-Hor Outline"/>
              </a:rPr>
              <a:t>انتهى الدرس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53920" y="5897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INF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3T00:26:39Z</dcterms:created>
  <dc:creator>a</dc:creator>
  <dc:description/>
  <dc:language>en-US</dc:language>
  <cp:lastModifiedBy>a</cp:lastModifiedBy>
  <dcterms:modified xsi:type="dcterms:W3CDTF">2002-08-16T10:45:35Z</dcterms:modified>
  <cp:revision>7</cp:revision>
  <dc:subject/>
  <dc:title>الشريحة 1</dc:title>
</cp:coreProperties>
</file>